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8B75-FCBA-4720-AB71-5376B7B0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4412-0760-48AC-8477-236E1E3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AB19-8D8C-4649-8411-888B3B8F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664B-8BCE-4F41-9658-039657AF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BE0-539D-40C7-A551-7D3A3F48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FE46-35D9-404E-8DD0-E35DF844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FE83-83F1-4AAD-A576-F7093853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BC38-3F4A-4136-8FD7-33F5B8B8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2AC8-6BB0-459A-A51C-3D069D75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795F-6A7B-434D-9822-D21ABEF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8E7-FB2E-4467-AB45-587DB99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064C-99CE-4902-8D79-26AFD5F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E50F-E110-4DE1-BDDB-C6FAA57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F3A1-4469-4E97-95CA-412EFA49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F89A-4D41-45E8-9F5B-549775E9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437E-100F-4891-BD6E-FE222921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E0DA-08F6-4777-853D-C6CF086F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E0EF-D814-47DC-A298-9F6A927A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250A-9F1C-4AE2-9954-7A8607D9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6C32-A9FA-422E-B869-BCD09AFF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C1B7-C534-4EB0-B717-90791957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FDE3-3AEA-426A-8889-805F485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5974-39A6-42F7-BFB3-43FB752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8308-0BFD-49F9-940A-5410962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F317-3871-4208-96B6-4BB0EE938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C15-5A13-48A9-B525-B21563B0F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Me llamo _______               Clase 8 im</a:t>
            </a:r>
            <a:br>
              <a:rPr sz="3800"/>
            </a:b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La fecha es el 11 de dic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Propósito # 1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iste para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Fuiste al cine durante el fin de se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te una pelic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elicula mira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ipo de pelicula f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Arial"/>
              </a:rPr>
              <a:t>El Pretérito de los verbos –ER, -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usamos el preter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verbos regulares que terminan en –ER/ -IR se conjugan de la siguiente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ER  /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0099"/>
                </a:solidFill>
                <a:latin typeface="Arial"/>
              </a:rPr>
              <a:t>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6428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18760" y="4495680"/>
            <a:ext cx="83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748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9200" y="5562720"/>
            <a:ext cx="157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emo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6952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2660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4160" y="449568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st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980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2920" y="5562720"/>
            <a:ext cx="140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mo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3968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920" y="1889280"/>
            <a:ext cx="658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Usamos el pretérito para expresar una acción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empezó y termino en el pasado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58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76720" y="1981080"/>
          <a:ext cx="5410080" cy="405936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sis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o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os verbo ‘DAR’ y ‘VER’ en el Prete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terito de los verbos D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give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se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conjugan igual que los verbos que terminan en –ER/-IR pero SIN AC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Dar         /        </a:t>
            </a:r>
            <a:r>
              <a:rPr b="1" lang="es-ES_tradnl" sz="3200" spc="-1" strike="noStrike">
                <a:solidFill>
                  <a:srgbClr val="990099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75480" y="3809880"/>
            <a:ext cx="49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4320" y="4343400"/>
            <a:ext cx="962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1200" y="4800600"/>
            <a:ext cx="68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15560" y="5334120"/>
            <a:ext cx="113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9240" y="5943600"/>
            <a:ext cx="120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70360" y="3809880"/>
            <a:ext cx="47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9200" y="4343400"/>
            <a:ext cx="93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2400" y="4800600"/>
            <a:ext cx="66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10800" y="5334120"/>
            <a:ext cx="11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86760" y="5943600"/>
            <a:ext cx="117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28:00Z</dcterms:created>
  <dc:creator>Helen Zumaeta</dc:creator>
  <dc:description/>
  <dc:language>en-US</dc:language>
  <cp:lastModifiedBy>Helen Zumaeta</cp:lastModifiedBy>
  <dcterms:modified xsi:type="dcterms:W3CDTF">2012-12-11T20:29:43Z</dcterms:modified>
  <cp:revision>10</cp:revision>
  <dc:subject/>
  <dc:title>Me llamo _______               Clase 8 im La fecha es el 6 de diciembre del 2012</dc:title>
</cp:coreProperties>
</file>